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B4A6-7428-4C1E-81C8-9A0CBD766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17E0-DC56-40EB-B653-7C88A09F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507E-9311-4BFA-A03B-2DC71AF0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956-03E0-48EC-BF72-C9139F6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221C-280A-42CE-93FC-1CA577FE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6793-A4E6-4211-BA09-3A00437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C6D8-F21A-403A-9562-DA04E077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0312-6A6A-4BBA-AE1F-2AA33935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BA0CF-E171-4F10-A692-74416DA3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9F61-406E-4BC8-A9A3-3E7A9A36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DAD-9619-41C8-AFC7-FE094A9F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F80-6CFE-4B84-95A2-594574D4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894D-246F-4AE9-954A-1ECAA459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1AB9-4601-4613-B320-CB7431F0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BADE-705E-44F5-9D02-C9308F969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22B8-F6B9-43C1-B86D-723186DA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B4E3-AF36-44C9-8213-3CC05C57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670-29E1-4C11-A66E-057027A9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0E1-1854-40A0-92E8-131D59C26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B63-0CDE-45B6-BC89-747173B8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BBB-2D68-40E9-8D0F-04E7FFC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C332-A88A-47FE-92DC-AD1623D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7C6-6CA1-4E69-A71E-20F33FDB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418-EBDF-4BF0-BFCD-944F240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B9E3-21E4-4927-BB23-19CED8541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C64-9712-4191-B3CE-25870B6C06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n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you’ve been, where you’re go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School Policies &amp; Educational Philosophy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school policies affect teaching and dealing with religion in class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educational philosophies address in regards to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your educational philosophy about religion and issues with it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stay informed on issu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address issues in the classroo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: evol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on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ices you make affect out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ourt Cas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hey affect the future of teac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Polit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politics affect the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political issues affect by relig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4495680" y="3581280"/>
            <a:ext cx="3657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 the futur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apital punish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lobal war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telligent desig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irth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y marri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elfare polic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litary policy and foreign poli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: Current Ev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s in the world affects how we study relig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religious literacy help students better understand world ev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cy of World Relig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9/11 apathy, ignorance, limited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religion as subject ma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about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n in world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and Values in Edu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origins of Wester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rates, Aristotle, Aqu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church schools – morality, values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fter Virt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981) by Alasdair MacIntyre book proposes an Aristotelian account of practice and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education in the practice of shared virtues can itself be a viable practice in our plural society.” Katsushige Katay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 for 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world religions literacy to social studies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moral values education to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Lobbyist and Special Interest group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in textbook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they affect what is tau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45:52Z</dcterms:created>
  <dc:creator>Vanessa Jakse</dc:creator>
  <dc:description/>
  <dc:language>en-US</dc:language>
  <cp:lastModifiedBy>Campus Computing Sites</cp:lastModifiedBy>
  <dcterms:modified xsi:type="dcterms:W3CDTF">2009-07-24T17:09:14Z</dcterms:modified>
  <cp:revision>6</cp:revision>
  <dc:subject/>
  <dc:title>Religion and the Public Schools</dc:title>
</cp:coreProperties>
</file>